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gif" ContentType="image/gif"/>
  <Override PartName="/ppt/media/image1.jpeg" ContentType="image/jpeg"/>
  <Override PartName="/ppt/media/image4.gif" ContentType="image/gif"/>
  <Override PartName="/ppt/media/image15.wmf" ContentType="image/x-wmf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EF8-AAA7-44C7-BD0C-F94FF787F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70E-B71F-4CEE-9C19-018B7ABDE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39F-5A84-488C-8FFE-759BD12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E9D-7667-413E-992A-09689745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DDE-294D-4824-A251-F96BC288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FE7-713F-4C1F-8A3F-884F1A48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C97-06CA-4B9A-9F90-1F785203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3E9-1DB9-4FAC-803F-1AB02D9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34D-15BF-4BA5-9222-927FF536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A58-DCBD-4468-8029-3F78EA7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AE7-ECA0-4FDC-8B7E-C8A5B69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373-44B8-4223-92C0-CB40542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65E-AD91-4F64-8FAD-BE4BDD5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C3A-EEEF-48CF-8223-840E948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C53-FD41-47A1-8EAC-61B1C5430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75928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«</a:t>
            </a:r>
            <a:r>
              <a:rPr b="1" lang="ru-RU" sz="4000" spc="-1" strike="noStrike">
                <a:solidFill>
                  <a:srgbClr val="ff3300"/>
                </a:solidFill>
                <a:latin typeface="Bookman Old Style"/>
              </a:rPr>
              <a:t>США: «Новый курс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Bookman Old Style"/>
              </a:rPr>
              <a:t>Ф.   Рузвельта: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93200" y="4297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8" descr="i[49]"/>
          <p:cNvPicPr/>
          <p:nvPr/>
        </p:nvPicPr>
        <p:blipFill>
          <a:blip r:embed="rId1"/>
          <a:stretch/>
        </p:blipFill>
        <p:spPr>
          <a:xfrm>
            <a:off x="3851280" y="4365720"/>
            <a:ext cx="1727280" cy="128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31" descr="http://im0-tub.yandex.net/i?id=27099914&amp;tov=0"/>
          <p:cNvPicPr/>
          <p:nvPr/>
        </p:nvPicPr>
        <p:blipFill>
          <a:blip r:embed="rId2"/>
          <a:stretch/>
        </p:blipFill>
        <p:spPr>
          <a:xfrm>
            <a:off x="7164360" y="260280"/>
            <a:ext cx="1800360" cy="17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 Box 32"/>
          <p:cNvSpPr/>
          <p:nvPr/>
        </p:nvSpPr>
        <p:spPr>
          <a:xfrm>
            <a:off x="611280" y="2565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к тоталитаризму или расширение демократи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268360" cy="15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99240" cy="3363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09" name="TextBox 2"/>
          <p:cNvSpPr/>
          <p:nvPr/>
        </p:nvSpPr>
        <p:spPr>
          <a:xfrm>
            <a:off x="539640" y="33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Почему в условиях кризиса 1929 – 1932 гг. оказались неэффективными «обычные» методы выхода из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. Оценка результатов «нового кур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71640" y="407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79280" y="1484280"/>
            <a:ext cx="6840720" cy="2016000"/>
          </a:xfrm>
          <a:prstGeom prst="wedgeEllipseCallout">
            <a:avLst>
              <a:gd name="adj1" fmla="val 64435"/>
              <a:gd name="adj2" fmla="val 135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тику Рузвельта можно привести к единому знаменателю только на базе одной гипотезы…мистер Рузвельт намерен идти к фашиз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Ф. Ст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826920" y="2565360"/>
            <a:ext cx="6840720" cy="2016000"/>
          </a:xfrm>
          <a:prstGeom prst="wedgeEllipseCallout">
            <a:avLst>
              <a:gd name="adj1" fmla="val 64435"/>
              <a:gd name="adj2" fmla="val 121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ка, лежащая в основе нового курса, очевидна – во все возрастающей степени вырисовывается обнаженный кулак капиталистического государ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Лер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619280" y="3789360"/>
            <a:ext cx="6840360" cy="2376360"/>
          </a:xfrm>
          <a:prstGeom prst="wedgeEllipseCallout">
            <a:avLst>
              <a:gd name="adj1" fmla="val 42319"/>
              <a:gd name="adj2" fmla="val 74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, видящие меня в первый раз, читали в газетах и слышали по радио, что я по меньшей мере людоед – сговариваюсь с коммунистами, уничтожаю богачей, разрушаю древние традиции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 Рузве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324000" y="333360"/>
            <a:ext cx="4392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В 1933 году американский народ требовал не урезания демократии, а её расширения. Именно этого я и добивал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Рузве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328464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ак вы считаете, итоги социально- экономического и общественно – политического развития США в 1930 – е гг. подтверждают или опровергают это заявл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1211886607_98321"/>
          <p:cNvPicPr/>
          <p:nvPr/>
        </p:nvPicPr>
        <p:blipFill>
          <a:blip r:embed="rId1"/>
          <a:stretch/>
        </p:blipFill>
        <p:spPr>
          <a:xfrm>
            <a:off x="5219640" y="260280"/>
            <a:ext cx="3492720" cy="259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916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Bookman Old Style"/>
              </a:rPr>
              <a:t>Спасибо все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Международные отношения 20 – 30 – х гг. ХХ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9640" y="1916280"/>
            <a:ext cx="352908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924 – 1929 гг.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ра пацифизм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б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003640" y="1916280"/>
            <a:ext cx="352908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929 – 1939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т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я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dove[1]"/>
          <p:cNvPicPr/>
          <p:nvPr/>
        </p:nvPicPr>
        <p:blipFill>
          <a:blip r:embed="rId1"/>
          <a:stretch/>
        </p:blipFill>
        <p:spPr>
          <a:xfrm>
            <a:off x="1476360" y="5533920"/>
            <a:ext cx="113364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75ee81eefcc2[1]"/>
          <p:cNvPicPr/>
          <p:nvPr/>
        </p:nvPicPr>
        <p:blipFill>
          <a:blip r:embed="rId2"/>
          <a:stretch/>
        </p:blipFill>
        <p:spPr>
          <a:xfrm>
            <a:off x="6732720" y="5661000"/>
            <a:ext cx="8492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Мировой экономический кризис 1929 – 1933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9640" y="206064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219640" y="206064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4005360"/>
            <a:ext cx="85694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фляция - в Германии выпускались банкнот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млн. и 50 млрд. ма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азорилось более 30 млн. крест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есятки миллионов людей лишились всех сбережений и жи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ряде стран устанавливаются тоталитарные реж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987640" y="1413000"/>
            <a:ext cx="59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Бедность рождает сты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Стыдящийся теряет муж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Немужественный терпит уни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Униженного всегда отверг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Отвергнутый впадает в отчая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Отчаявшийся лишается разу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Лишившийся разума – гиб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Да, бедность – источник всех б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Хитопаде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Картинка 33 из 2277"/>
          <p:cNvPicPr/>
          <p:nvPr/>
        </p:nvPicPr>
        <p:blipFill>
          <a:blip r:embed="rId1"/>
          <a:stretch/>
        </p:blipFill>
        <p:spPr>
          <a:xfrm>
            <a:off x="250920" y="1413000"/>
            <a:ext cx="352908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108000" y="115920"/>
            <a:ext cx="8855640" cy="6739920"/>
            <a:chOff x="108000" y="115920"/>
            <a:chExt cx="8855640" cy="6739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053320" y="2292840"/>
              <a:ext cx="1348560" cy="2385360"/>
            </a:xfrm>
            <a:prstGeom prst="bentConnector3">
              <a:avLst>
                <a:gd name="adj1" fmla="val 12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2668680" y="2293560"/>
              <a:ext cx="1348560" cy="2384280"/>
            </a:xfrm>
            <a:prstGeom prst="bentConnector3">
              <a:avLst>
                <a:gd name="adj1" fmla="val 12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0"/>
            <p:cNvSpPr/>
            <p:nvPr/>
          </p:nvSpPr>
          <p:spPr>
            <a:xfrm>
              <a:off x="2491560" y="115920"/>
              <a:ext cx="4087080" cy="269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Две модели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развития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общества в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условиях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0000"/>
                  </a:solidFill>
                  <a:latin typeface="Arial"/>
                </a:rPr>
                <a:t>кризис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1"/>
            <p:cNvSpPr/>
            <p:nvPr/>
          </p:nvSpPr>
          <p:spPr>
            <a:xfrm>
              <a:off x="108000" y="4159800"/>
              <a:ext cx="4087080" cy="269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траны, в которых бы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существлен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 социа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еформы (СШ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еликобритания, Франци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2"/>
            <p:cNvSpPr/>
            <p:nvPr/>
          </p:nvSpPr>
          <p:spPr>
            <a:xfrm>
              <a:off x="4876560" y="4159800"/>
              <a:ext cx="4087080" cy="269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траны в которых бы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становлены авторита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 тоталитар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ежимы (Итали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ерман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осточная Европ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Какие явления обусловили мировой экономический кризис 1929 – 1933 гг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) несовершенство Версальско – Вашингтонской системы послевоенного урегулирования международных отнош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Б) структурная перестройка экономики ведущих капиталистических стран Европы и США в 1920 – е гг.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В) усиление неравномерности темпов экономического развития капиталистических стран в 1920 – е г.г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Г) противоречия между массовым производством товаров и низкой платежеспособностью насел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Д) ваш вариант отве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1.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Bookman Old Style"/>
              </a:rPr>
              <a:t>США в годы Великой депрессии. Особенности мирового экономического кризиса в стране процве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_1749_b907b883_XL[1]"/>
          <p:cNvPicPr/>
          <p:nvPr/>
        </p:nvPicPr>
        <p:blipFill>
          <a:blip r:embed="rId1"/>
          <a:stretch/>
        </p:blipFill>
        <p:spPr>
          <a:xfrm>
            <a:off x="2766960" y="3492360"/>
            <a:ext cx="3828960" cy="2878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92360" y="2421000"/>
            <a:ext cx="5400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амый тягостный вид бедности – нужда среди бога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ен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Мусорный бак"/>
          <p:cNvPicPr/>
          <p:nvPr/>
        </p:nvPicPr>
        <p:blipFill>
          <a:blip r:embed="rId2"/>
          <a:stretch/>
        </p:blipFill>
        <p:spPr>
          <a:xfrm>
            <a:off x="6516720" y="3789360"/>
            <a:ext cx="21607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Picture 12" descr="Кризис копия № 2"/>
          <p:cNvPicPr/>
          <p:nvPr/>
        </p:nvPicPr>
        <p:blipFill>
          <a:blip r:embed="rId3"/>
          <a:stretch/>
        </p:blipFill>
        <p:spPr>
          <a:xfrm>
            <a:off x="539640" y="2708280"/>
            <a:ext cx="25146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60480"/>
            <a:ext cx="925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1932 г. – на выборах побеждает кандидат от демократической партии США – Ф.Д. Рузвельт, который пообещал избирателям вывести страну из кризиса с помощью «нового курса для забытого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5S0066i"/>
          <p:cNvPicPr/>
          <p:nvPr/>
        </p:nvPicPr>
        <p:blipFill>
          <a:blip r:embed="rId1"/>
          <a:stretch/>
        </p:blipFill>
        <p:spPr>
          <a:xfrm>
            <a:off x="468360" y="3213000"/>
            <a:ext cx="245736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19" descr="i?id=56543079&amp;tov=3"/>
          <p:cNvPicPr/>
          <p:nvPr/>
        </p:nvPicPr>
        <p:blipFill>
          <a:blip r:embed="rId2"/>
          <a:stretch/>
        </p:blipFill>
        <p:spPr>
          <a:xfrm>
            <a:off x="6300720" y="3213000"/>
            <a:ext cx="2354400" cy="28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20"/>
          <p:cNvSpPr/>
          <p:nvPr/>
        </p:nvSpPr>
        <p:spPr>
          <a:xfrm>
            <a:off x="179280" y="5927760"/>
            <a:ext cx="2880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.Д. Рузвель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2,8 млн. гол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6012000" y="5927760"/>
            <a:ext cx="28810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Гув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15,8 млн. гол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3276720" y="3357720"/>
            <a:ext cx="2773080" cy="259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2. Программа Ф. Рузвельта «Новый курс», её реализация в 1930-х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324000" y="4005360"/>
            <a:ext cx="249840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роен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овскую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835280" y="3429000"/>
            <a:ext cx="249876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яс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з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2700360" y="2997360"/>
            <a:ext cx="249876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е цены пу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ляци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нд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3635280" y="2492280"/>
            <a:ext cx="249876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до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716360" y="2060640"/>
            <a:ext cx="249876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упатель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5796000" y="1916280"/>
            <a:ext cx="2498760" cy="18716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м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даю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95280" y="170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ел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image012[1]"/>
          <p:cNvPicPr/>
          <p:nvPr/>
        </p:nvPicPr>
        <p:blipFill>
          <a:blip r:embed="rId1"/>
          <a:stretch/>
        </p:blipFill>
        <p:spPr>
          <a:xfrm rot="5400000">
            <a:off x="1383120" y="2513520"/>
            <a:ext cx="100800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image012[1]"/>
          <p:cNvPicPr/>
          <p:nvPr/>
        </p:nvPicPr>
        <p:blipFill>
          <a:blip r:embed="rId2"/>
          <a:stretch/>
        </p:blipFill>
        <p:spPr>
          <a:xfrm rot="5400000">
            <a:off x="6784200" y="4817520"/>
            <a:ext cx="1008000" cy="390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6227640" y="400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140360" y="57340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284720" y="580536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ход США из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16000" y="90792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924360" y="4365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1280" y="5493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95280" y="17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А) Кейнсианская модель экономики – идеология социально ориентированного либера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333360"/>
            <a:ext cx="806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39640" y="404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man Old Style"/>
              </a:rPr>
              <a:t>Что предлагает Ф. Рузвельт американц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4000" y="544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) Реформы Ф. Рузвель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66273[1]"/>
          <p:cNvPicPr/>
          <p:nvPr/>
        </p:nvPicPr>
        <p:blipFill>
          <a:blip r:embed="rId1"/>
          <a:stretch/>
        </p:blipFill>
        <p:spPr>
          <a:xfrm>
            <a:off x="1692360" y="342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66273[1]"/>
          <p:cNvPicPr/>
          <p:nvPr/>
        </p:nvPicPr>
        <p:blipFill>
          <a:blip r:embed="rId2"/>
          <a:stretch/>
        </p:blipFill>
        <p:spPr>
          <a:xfrm>
            <a:off x="6227640" y="342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179280" y="39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иление роли государства в эконо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788000" y="4005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мулирование потребительск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58:16Z</dcterms:created>
  <dc:creator>Root</dc:creator>
  <dc:description/>
  <dc:language>en-US</dc:language>
  <cp:lastModifiedBy>Бикулова</cp:lastModifiedBy>
  <dcterms:modified xsi:type="dcterms:W3CDTF">2015-01-29T08:00:24Z</dcterms:modified>
  <cp:revision>37</cp:revision>
  <dc:subject/>
  <dc:title> «США: «Новый курс Ф. Рузвельта: путь к тоталитаризму или расширение демократии?» </dc:title>
</cp:coreProperties>
</file>